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87F9-E416-463B-B107-DF3DE6C4F8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1B57-3815-4CAE-852C-C041B345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97BB-CC12-4273-A4F6-EA9AF95E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D9E2-65E6-4C0D-9046-38AD2DBE90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8A2A-DE1E-461B-B202-E30BF2D2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98FE-286C-4836-815D-354EE2E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1A7C-3559-4C10-872A-CB564878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6B06-9C26-4C24-9BD0-F0EA9500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E1AB-562D-4FE4-8B34-86E43556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5F44-97A0-41A3-BC68-5904C651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DE53-2378-438F-B9EC-66D85769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856F-68F0-40DC-BBA7-6E6100D9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a2b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2AB0-E26A-4631-8D61-1CF9639C25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八节   心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甲状腺功能、血糖、脑钠肽、肌钙蛋白、心肌酶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彩超、甲状腺彩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小时动态心电图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857840" y="3859200"/>
            <a:ext cx="3146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舒适度减弱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活动无耐力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时所致的疲乏无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睡眠型态紊乱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及担心预后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是一种自觉心脏搏动的不适感或心慌感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可以是病理性的，也可以是生理性的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时，心率可快可慢，或有心律失常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和心律正常者也可有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C:\Documents and Settings\Administrator\Application Data\360se6\Application\User Data\temp\u=2824109337,324773309&amp;fm=11&amp;gp=0.jpg"/>
          <p:cNvPicPr/>
          <p:nvPr/>
        </p:nvPicPr>
        <p:blipFill>
          <a:blip r:embed="rId1"/>
          <a:stretch/>
        </p:blipFill>
        <p:spPr>
          <a:xfrm>
            <a:off x="5430960" y="4145040"/>
            <a:ext cx="2854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发生机制尚未完全清楚，一般认为心脏活动过度是心悸发生的基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2" name="组合 68"/>
          <p:cNvGrpSpPr/>
          <p:nvPr/>
        </p:nvGrpSpPr>
        <p:grpSpPr>
          <a:xfrm>
            <a:off x="857160" y="2928960"/>
            <a:ext cx="7786800" cy="2874960"/>
            <a:chOff x="857160" y="2928960"/>
            <a:chExt cx="7786800" cy="2874960"/>
          </a:xfrm>
        </p:grpSpPr>
        <p:grpSp>
          <p:nvGrpSpPr>
            <p:cNvPr id="113" name="组合 32"/>
            <p:cNvGrpSpPr/>
            <p:nvPr/>
          </p:nvGrpSpPr>
          <p:grpSpPr>
            <a:xfrm>
              <a:off x="857160" y="2928960"/>
              <a:ext cx="3428280" cy="374760"/>
              <a:chOff x="857160" y="2928960"/>
              <a:chExt cx="3428280" cy="37476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2071440" y="2928960"/>
                <a:ext cx="2214000" cy="357120"/>
                <a:chOff x="2071440" y="2928960"/>
                <a:chExt cx="2214000" cy="35712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2571480" y="29289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缩短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16" name="AutoShape 19"/>
                <p:cNvCxnSpPr/>
                <p:nvPr/>
              </p:nvCxnSpPr>
              <p:spPr>
                <a:xfrm>
                  <a:off x="2071440" y="31424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17" name="Rectangle 8"/>
              <p:cNvSpPr/>
              <p:nvPr/>
            </p:nvSpPr>
            <p:spPr>
              <a:xfrm>
                <a:off x="857160" y="29289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速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18" name="Rectangle 6"/>
            <p:cNvSpPr/>
            <p:nvPr/>
          </p:nvSpPr>
          <p:spPr>
            <a:xfrm>
              <a:off x="4786200" y="292896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/>
            <p:nvPr/>
          </p:nvCxnSpPr>
          <p:spPr>
            <a:xfrm>
              <a:off x="4285800" y="31428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cxnSp>
          <p:nvCxnSpPr>
            <p:cNvPr id="120" name="形状 39"/>
            <p:cNvCxnSpPr>
              <a:stCxn id="118" idx="3"/>
            </p:cNvCxnSpPr>
            <p:nvPr/>
          </p:nvCxnSpPr>
          <p:spPr>
            <a:xfrm>
              <a:off x="7000920" y="3106440"/>
              <a:ext cx="714960" cy="751680"/>
            </a:xfrm>
            <a:prstGeom prst="bentConnector2">
              <a:avLst/>
            </a:prstGeom>
            <a:ln w="28440">
              <a:solidFill>
                <a:srgbClr val="692aa2"/>
              </a:solidFill>
              <a:miter/>
              <a:tailEnd len="med" type="arrow" w="med"/>
            </a:ln>
          </p:spPr>
        </p:cxnSp>
        <p:sp>
          <p:nvSpPr>
            <p:cNvPr id="121" name="Rectangle 8"/>
            <p:cNvSpPr/>
            <p:nvPr/>
          </p:nvSpPr>
          <p:spPr>
            <a:xfrm>
              <a:off x="6929640" y="3857400"/>
              <a:ext cx="1714320" cy="8571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肌与心脏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瓣膜紧张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2" name="直接箭头连接符 46"/>
            <p:cNvCxnSpPr/>
            <p:nvPr/>
          </p:nvCxnSpPr>
          <p:spPr>
            <a:xfrm flipV="1">
              <a:off x="8501400" y="4285440"/>
              <a:ext cx="2160" cy="28620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23" name="AutoShape 19"/>
            <p:cNvCxnSpPr/>
            <p:nvPr/>
          </p:nvCxnSpPr>
          <p:spPr>
            <a:xfrm flipH="1" flipV="1">
              <a:off x="635724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4" name="Rectangle 6"/>
            <p:cNvSpPr/>
            <p:nvPr/>
          </p:nvSpPr>
          <p:spPr>
            <a:xfrm>
              <a:off x="4143240" y="414324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尖搏动增强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5" name="AutoShape 19"/>
            <p:cNvCxnSpPr/>
            <p:nvPr/>
          </p:nvCxnSpPr>
          <p:spPr>
            <a:xfrm flipH="1" flipV="1">
              <a:off x="357120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6" name="TextBox 52"/>
            <p:cNvSpPr/>
            <p:nvPr/>
          </p:nvSpPr>
          <p:spPr>
            <a:xfrm>
              <a:off x="2714400" y="4000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悸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7" name="TextBox 53"/>
            <p:cNvSpPr/>
            <p:nvPr/>
          </p:nvSpPr>
          <p:spPr>
            <a:xfrm>
              <a:off x="7358040" y="3071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室收缩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128" name="组合 32"/>
            <p:cNvGrpSpPr/>
            <p:nvPr/>
          </p:nvGrpSpPr>
          <p:grpSpPr>
            <a:xfrm>
              <a:off x="857160" y="5429160"/>
              <a:ext cx="3428280" cy="374760"/>
              <a:chOff x="857160" y="5429160"/>
              <a:chExt cx="3428280" cy="374760"/>
            </a:xfrm>
          </p:grpSpPr>
          <p:grpSp>
            <p:nvGrpSpPr>
              <p:cNvPr id="129" name="Group 21"/>
              <p:cNvGrpSpPr/>
              <p:nvPr/>
            </p:nvGrpSpPr>
            <p:grpSpPr>
              <a:xfrm>
                <a:off x="2071440" y="5429160"/>
                <a:ext cx="2214000" cy="357120"/>
                <a:chOff x="2071440" y="5429160"/>
                <a:chExt cx="2214000" cy="35712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2571480" y="54291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延长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31" name="AutoShape 19"/>
                <p:cNvCxnSpPr/>
                <p:nvPr/>
              </p:nvCxnSpPr>
              <p:spPr>
                <a:xfrm>
                  <a:off x="2071440" y="56426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2" name="Rectangle 8"/>
              <p:cNvSpPr/>
              <p:nvPr/>
            </p:nvSpPr>
            <p:spPr>
              <a:xfrm>
                <a:off x="857160" y="54291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缓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9"/>
            <p:cNvCxnSpPr/>
            <p:nvPr/>
          </p:nvCxnSpPr>
          <p:spPr>
            <a:xfrm>
              <a:off x="4285800" y="56430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34" name="Rectangle 6"/>
            <p:cNvSpPr/>
            <p:nvPr/>
          </p:nvSpPr>
          <p:spPr>
            <a:xfrm>
              <a:off x="4786200" y="5429160"/>
              <a:ext cx="185724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35" name="直接箭头连接符 61"/>
            <p:cNvCxnSpPr/>
            <p:nvPr/>
          </p:nvCxnSpPr>
          <p:spPr>
            <a:xfrm flipV="1">
              <a:off x="6715080" y="299952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6" name="直接箭头连接符 63"/>
            <p:cNvCxnSpPr/>
            <p:nvPr/>
          </p:nvCxnSpPr>
          <p:spPr>
            <a:xfrm flipH="1">
              <a:off x="6500520" y="550044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7" name="AutoShape 19"/>
            <p:cNvCxnSpPr/>
            <p:nvPr/>
          </p:nvCxnSpPr>
          <p:spPr>
            <a:xfrm flipV="1">
              <a:off x="5500800" y="4571640"/>
              <a:ext cx="1440" cy="7869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健康人在剧烈运动或精神过度紧张时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酒、喝浓茶或咖啡后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应用某些药物，如氨茶碱、肾上腺素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妊娠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292360" y="4437000"/>
          <a:ext cx="30970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360" y="4437000"/>
                    <a:ext cx="30970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各种原因引起的心室肥大，如高血压性心脏病、主动脉瓣关闭不全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可引起心排出量增加的疾病，如发热、甲状腺功能亢进、贫血、低血糖症、嗜铬细胞瘤等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心脏解剖，左侧位（左室和Mashell)b"/>
          <p:cNvPicPr/>
          <p:nvPr/>
        </p:nvPicPr>
        <p:blipFill>
          <a:blip r:embed="rId1"/>
          <a:stretch/>
        </p:blipFill>
        <p:spPr>
          <a:xfrm>
            <a:off x="5145120" y="4857840"/>
            <a:ext cx="245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律失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速：各种原因引起的窦性心动过速、阵发性室上性心动过速或室性心动过速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缓：高度房室传导阻滞（二、三度房室传导阻滞）、窦性心动过缓或病态窦房结综合征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律不齐：期前收缩、心房扑动或颤动等均可引起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力衰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神经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由自主神经功能紊乱所引起，青年女性多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询问心悸发作的时间、频率、性质及程度，有无先兆症状及加重缓解的因素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困难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晕厥、抽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前区疼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瘦、出汗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27" descr="www"/>
          <p:cNvPicPr/>
          <p:nvPr/>
        </p:nvPicPr>
        <p:blipFill>
          <a:blip r:embed="rId1"/>
          <a:stretch/>
        </p:blipFill>
        <p:spPr>
          <a:xfrm>
            <a:off x="5499000" y="3432240"/>
            <a:ext cx="28227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器质性心脏病、贫血、内分泌疾病等病史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氨茶碱、肾上腺素等药物的使用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烟、酒、浓茶、咖啡的嗜好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过度劳累、精神刺激等诱发因素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机体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重点是心悸对患者的日常活动有无影响及其程度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疗及护理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发热、脉搏增快或减慢、血压的异常；有无营养不良；有无甲亢、贫血面容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面部及颈部评估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眼球震颤、甲状腺肿大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肺部评估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呼吸困难、呼吸音异常及干湿啰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双下肢水肿、双手震颤等。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1:30Z</dcterms:modified>
  <cp:revision>17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